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F3D-E883-41EA-89D5-F60843C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66C-C68B-469F-BB4D-8ED9421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8F3-FA64-4F20-B15A-7AD705AA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ED4-855B-4395-9334-D9ECF2FC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85B-271A-4FA5-895D-10035B1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C65-D31B-44CD-8F9E-70A74F6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0F2-37E5-4B5C-88C8-269AC74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7A4-48DD-4B6D-A62F-ACBA2B65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B72-D01D-4B25-980B-33AC744C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0C8-4C5C-4D5E-A80A-008F107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6B9-D20D-4B42-8C5F-73BB983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4B3-A6C0-4473-81CD-2A8CAE3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BABD-B6CD-4CB0-96AC-ABF56187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u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the world of wolves. These are facts all about wolves and pictures that follow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common to see a wolf just prancing around in your backy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ves are known to live in colder, more far away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lves are the most endangered wolves, and may be extinct soon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267000" cy="487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ves are really a cool and interesting an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diet contains hoofed animals, and sometimes smaller an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owl to their pack mates to transport messages to them from mile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ifferent types of wolves- (Red wolf, White wolf, Black wolf, Timber wolf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the ancestors of the modern day dog. They are the biggest canine in the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191120" cy="335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ever see a wild wolf, never try to get up close with it or touch it. You never know if that wolf will ge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eople who have experienced living with wild wolves (Shawn Ellis, famous Irish wolf watcher)--------------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y wolves resemble German shepherds, and malam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ave a wolf by just donating dolla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124080" cy="281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0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24Z</dcterms:modified>
  <cp:revision>8</cp:revision>
  <dc:subject/>
  <dc:title>Wolves</dc:title>
</cp:coreProperties>
</file>